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D15C-D2A4-4B40-B890-89D7201457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09/18/illegal-drugs-facts-infographic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58B-DD0C-4A59-B9DE-3B9052C52E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22E6-11F3-4418-BBCD-23F77C1BBC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1A9-023A-4EB6-86F9-7DAAD30A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F6A-7677-4979-A38F-C5037E8B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364-DBF7-417C-9C6D-337A8543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550-B4B9-447B-9047-5D310F04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5A7-8BBD-4091-967C-B7180BFF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668-39FE-4614-89D9-91AD3E8A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846-D33B-43A7-9FDC-D6580589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35D-3FAA-4B8C-A332-1697C3ED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EA8-8CFF-4EAA-B48A-0E6852B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95D-EBF1-4075-B712-A2E8ADBC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364-FEF7-4959-9C44-8DFD4E4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C1C-A64B-456E-AEDC-E2CA74E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644-6858-452A-9B35-FDDB726C1C8D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2426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a kilo of heroin cost on a UK stre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the farmer get for a kilo of opium poppies (used to make the heroin)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id the number of cannabis and cocaine users in the world rise or fall between 1998 and 2008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percentage of US teenagers use cannabi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o more people die per year from drugs, alcohol or tobacco? What is the percentage differenc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are the 5 most popular drugs in the worl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(check your answers on the next slid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75920"/>
            <a:ext cx="7761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Now read this to find out more about world drug use and argument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4720" y="3807000"/>
            <a:ext cx="3897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Linda Ruas</cp:lastModifiedBy>
  <dcterms:modified xsi:type="dcterms:W3CDTF">2014-05-26T20:48:19Z</dcterms:modified>
  <cp:revision>22</cp:revision>
  <dc:subject/>
  <dc:title>DRUGS</dc:title>
</cp:coreProperties>
</file>